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C984-AA26-4EF5-A6BB-BA4C27A6B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01A6-FB29-4A1B-907D-5BB0C2F02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9D8A-079B-4EFD-93B3-81D766D90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74BD-C847-40AC-A228-F0A94D1A9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7514-9225-44DB-89F2-86F0A3E68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87C8-0887-4086-91D8-82F32B814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DF12-58E8-48CD-B37D-AA5748FD4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71B3-B760-4F77-9BBF-AD6024213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D2D7-52AC-469D-976E-603F1F770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646A-8FBE-461C-A697-42F041A44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9FA1-4AAF-448F-95DA-4C82C37D3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7B54-134F-42AD-925A-86396E6A7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EAF1-85FF-4FFF-9576-F17DB35A0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7C8E-A8C1-46F5-AB28-1743A5143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B9A8-50E4-46F9-9083-9F9D5E009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C2F6-94ED-4D64-9C98-17F3C1387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217-1A0F-4E50-BFF9-5AE6394C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9E9-1B69-4439-94E3-F0A5D5C9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072-6D9A-4229-9144-E4A45E62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808-C2E3-417A-B87C-550EB362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FD8-083A-4998-8652-68F654E4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A6F-1ED0-412C-A86C-C21279A1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DA6-0ADD-415E-9DE7-2DDD0789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3C2-BF44-4FB9-B058-F777FD45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7BF1-EC7D-47BB-A35C-849FE013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A39-4EEF-4C96-95DE-C1A86D94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25A-67D7-4BDF-9579-B2E28484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935-0744-4715-94DD-DE682F81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E347-6109-4144-947E-1BBB685C13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2627280" y="119700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2775960" y="162864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УТРИТИВНИ СУПЛЕМ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069000" y="2133720"/>
            <a:ext cx="3181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модул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наставна јед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8" descr=""/>
          <p:cNvPicPr/>
          <p:nvPr/>
        </p:nvPicPr>
        <p:blipFill>
          <a:blip r:embed="rId2"/>
          <a:stretch/>
        </p:blipFill>
        <p:spPr>
          <a:xfrm>
            <a:off x="682560" y="2998800"/>
            <a:ext cx="8077320" cy="10303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2862000" y="5373720"/>
            <a:ext cx="41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ф. др Владимир Живк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826920" y="1267920"/>
            <a:ext cx="7871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изиолошка искористљивост вит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утритивни фактори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актори који утичу углавном на апсорпцију витам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То су пре свега састав оброка и начин исх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нпр. Витамин А и провитамин А се слабо апсорбују ако је оброк сиромашан мастима ис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26920" y="1267920"/>
            <a:ext cx="7871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изиолошка искористљивост вит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нутрашњи фактори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 u="sng">
                <a:solidFill>
                  <a:srgbClr val="000000"/>
                </a:solidFill>
                <a:uFillTx/>
                <a:latin typeface="Arial"/>
              </a:rPr>
              <a:t>Физиолошки факто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Разлике у функцији ГИТ-а у зависности од старости утичу на апсорпц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Нпр. апсорпција вит. Б12 је смањена код старијих особа услед смањене активности паријеталних ћелија желу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 u="sng">
                <a:solidFill>
                  <a:srgbClr val="000000"/>
                </a:solidFill>
                <a:uFillTx/>
                <a:latin typeface="Arial"/>
              </a:rPr>
              <a:t>Здравствени стат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Различите болести могу утицати на апсорпцију и биоискористљивост неких витам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Нпр. апсорпција вит. Б9 је смањена код особа са ентеритис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ХРАМБЕНИ ИЗВОРИ ВИТАМ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47640" y="836640"/>
          <a:ext cx="5904000" cy="5824440"/>
        </p:xfrm>
        <a:graphic>
          <a:graphicData uri="http://schemas.openxmlformats.org/drawingml/2006/table">
            <a:tbl>
              <a:tblPr/>
              <a:tblGrid>
                <a:gridCol w="1152720"/>
                <a:gridCol w="1224000"/>
                <a:gridCol w="1224000"/>
                <a:gridCol w="1152360"/>
                <a:gridCol w="1150920"/>
              </a:tblGrid>
              <a:tr h="277920"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витамин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 витами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 Витамин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 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46520"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лац, павлака, кајмак, масни сиреви, сардина, рибље уље, жуманце, масно месо, срце, харинга, печурке, парадајз, зелена салата, спанаћ, шаргарепа, купус, карфиол, зрна житарице, црни – комплетни хлеб, сочиво, бадем, орах, банане, лимун, поморанџ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ивски квасац, клице житарица, сочиво, жуманце, купус, шаргарепа, спанаћ, карфиол, лук, јабуке, крушке, кромпир, црни – комплетни хлеб, грашак, млеко, маслац, лимун, поморанџа, парадајз, бадем, орах, печурке, шљиве, грожђе, банане, зелена салата, месо свињско, бубрези, јетра, пасуљ, кикири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мун, поморанџа, шипак, паприка, боровница, купус, парадајз, лук, зелена салата, зелени грашак, спанаћ, карфиол, грожђе, банане, шаргарепа, боранија, јабуке, крушке, шљиве, месни екстракт, млек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ибље уље, жуманце, маслац, кајмак, млеко, павлака, свињска јет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ље из клица житарица, кикирики, зелена салата, жуманце, масла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26920" y="1267920"/>
            <a:ext cx="7871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Rectangle 5" descr=""/>
          <p:cNvPicPr/>
          <p:nvPr/>
        </p:nvPicPr>
        <p:blipFill>
          <a:blip r:embed="rId2"/>
          <a:stretch/>
        </p:blipFill>
        <p:spPr>
          <a:xfrm>
            <a:off x="1054080" y="2925720"/>
            <a:ext cx="721188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26920" y="1267920"/>
            <a:ext cx="7871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А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бета каротен, ретино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*опште одлике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лици – А1 и А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посолубилан витам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кладишти се у јетри (90% количине вит. А у тел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абилан при термичкој обради хране  (дугим кувањем се губи до 25% овог витами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невне потребе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одрасли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800 – 1000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или 50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намирнице животињског порекла (месо, млеко, јаја, рибе и д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мирнице биљног порекла - садрже каротиноиде (провитамин А) – шаргарепа,спанаћ, купус и друге врсте воћа и поврћ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755640" y="5589720"/>
            <a:ext cx="80964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26920" y="1125000"/>
            <a:ext cx="78710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А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бета каротен, ретино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*физиолошке функције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нова (синтеза) ретинола из фоторецеп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гулација раста свих делова организма (ћелија, коже, костиј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нтиоксидациона свој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ржавање функције репродуктивног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ормалана раст и развој ембр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Услед недостајања овог витамина јавља се немогућност прилагођавања вида у условима смањене светлости - "кокошје “ или ноћно слепи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611280" y="5229360"/>
            <a:ext cx="809604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39280" y="981000"/>
            <a:ext cx="83170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Б1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тиамин, анеу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зиолошке функ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кофактор у процесу декарбоксил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одржава функцију нерава, мишића и ср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антиоксидациона свој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појачава апет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антидепресивни ефек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користан код трудница, дијабетечара, алкохоличара и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sr-RS" sz="1400" spc="-1" strike="noStrike">
                <a:solidFill>
                  <a:srgbClr val="000000"/>
                </a:solidFill>
                <a:latin typeface="Arial"/>
              </a:rPr>
              <a:t>* болест бери-бери (малаксалост, парестезија, тахикардија, хипотензија, опстипација, повраћање, отоци), најчешће у Азији услед уноса пиринча (слаба количина вит. Б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црни хлеб, варива и друге врсте семенки које се употребљавају за исхрану, квасац, пиво, месо, млеко и др (стална употреба белог хлеба смањује овај витамин у исхра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611280" y="515772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539640" y="5742000"/>
            <a:ext cx="8280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9280" y="1125000"/>
            <a:ext cx="83170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Б2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рибофлавин, лактофлав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зиолошке функ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регулише оксидационо-редукционе процесе у ћелиј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стиче опоравак тки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одржава функцију нерава, кож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осигурава нормалан раст и разво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ивски квасац, џигерица, месо (нарочито немасна говедина), лиснато поврће и 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684360" y="4581360"/>
            <a:ext cx="8248680" cy="543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684360" y="5084640"/>
            <a:ext cx="80643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39280" y="1125000"/>
            <a:ext cx="83170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Б3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ниацин, никотинска киселина, антипелагра факт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зиолошке функ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улази у саста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sr-R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ADPH</a:t>
            </a:r>
            <a:r>
              <a:rPr b="0" lang="sr-RS" sz="1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RS" sz="1600" spc="-1" strike="noStrike" u="sng">
                <a:solidFill>
                  <a:srgbClr val="000000"/>
                </a:solidFill>
                <a:uFillTx/>
                <a:latin typeface="Arial"/>
              </a:rPr>
              <a:t>ћелијско дисањ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одржава функцију нервног система, ГИТ-а, интегритет кож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смањује концентрацију холестерола у кр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фицит узрокује системску болест пелаг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тра, месо, кикирики, млеко, риба, квасац, зелено поврће, махунарке и житари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611280" y="515772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684360" y="5661000"/>
            <a:ext cx="79340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39280" y="134136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Б5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пантотенска кисел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зиолошке функ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саставни део коензима А - важан за одвијање Кребсовог циклу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осигурава нормалан расти разво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убрзава зарастање р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побољшава апсопрцију аминокисе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омаже у лечењу цирозе јетре и дијабет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термички није осетљ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џигерица, риба, пивски квасац, немасно месо, кикирики, печурке, грашак, житарице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611280" y="515772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611280" y="5732640"/>
            <a:ext cx="813744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КРИЋЕ ВИТ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imir Funk (Kazimierz Funk,1884 – 1967) – пољски биохемич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12. – amin vitae или vitam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(лат. vita - живот и amin – органско једињење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Резултат слика за Casmir Frank"/>
          <p:cNvPicPr/>
          <p:nvPr/>
        </p:nvPicPr>
        <p:blipFill>
          <a:blip r:embed="rId2"/>
          <a:stretch/>
        </p:blipFill>
        <p:spPr>
          <a:xfrm>
            <a:off x="6516720" y="2637000"/>
            <a:ext cx="2095560" cy="3162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Сродна слика"/>
          <p:cNvPicPr/>
          <p:nvPr/>
        </p:nvPicPr>
        <p:blipFill>
          <a:blip r:embed="rId3"/>
          <a:stretch/>
        </p:blipFill>
        <p:spPr>
          <a:xfrm>
            <a:off x="1403280" y="3284640"/>
            <a:ext cx="3097440" cy="27367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39280" y="126828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Б6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пиридокс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зиолошке функ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коензим различитих метаболичких реакција (аминокиселине и протеи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важан за функцију не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еритроцитопое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значајан у метаболизму хомоцисте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Користан код трудница,  дојиља, хипертиреоид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ја, квасац, месо,млеко, житарице, поврће и 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611280" y="472428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3"/>
          <a:stretch/>
        </p:blipFill>
        <p:spPr>
          <a:xfrm>
            <a:off x="684360" y="5295960"/>
            <a:ext cx="80200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39280" y="1341000"/>
            <a:ext cx="831708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Б7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биотин, витамин 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дериват пимелинске кисел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може да се синтетизује у цревима из бактер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зиолошке функ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има улогу у деаминацији и декарбоксилацији аминокисе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позитивно утиче на раст и развој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бадеми, банане, јунећа и свињска јетра, пивкси квасац и со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611280" y="472428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3"/>
          <a:stretch/>
        </p:blipFill>
        <p:spPr>
          <a:xfrm>
            <a:off x="684360" y="5300640"/>
            <a:ext cx="8064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39280" y="119700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Б9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фолна кисел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знат и као антианемични ф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зиолошке функ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коензим за синтезу ДН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нормалан раст и развој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одржавање функције нервног система и ГИТ-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неопходан у развоју нервног система фету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важан у метаболизму хомоцисте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користан у лечењу анемија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снато поврће, соја, пшеница, џигерица, квасац, јаја и 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611280" y="472428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611280" y="5300640"/>
            <a:ext cx="8064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39280" y="119700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Б12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цијалкобалам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зиолошке функ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неопходан у физиолошком сазревању еритроцита (еритроцитопоез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коензим у метаболизму ДНК, РНК и 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Користан у лечењу анем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Дефицит чест код вегетаријанаца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поручена доза: 3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одрасли, 2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де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џигерица, јаја, млеко, риба, екстракт говеђег меса и неки микроорганиз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611280" y="472428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3"/>
          <a:stretch/>
        </p:blipFill>
        <p:spPr>
          <a:xfrm>
            <a:off x="611280" y="5300640"/>
            <a:ext cx="811188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9280" y="119700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Ц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аскорбинска кисел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*опште одлике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открићем сузбијена болест –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скорб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Васко да Гама у 18 веку изгубио пола посаде, Џејмс Кук открио да се болест лечи киселим купус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Скорбут – крварења око корена длаке, поткожном ткиву и унутрашњим органима, климање зуба, отоци зглобова, ломљивост кост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Најнестабилнији од свих витамина: разграђује га кисеоник, базна средина, висока темп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лодови, листови и други делови скоро свих биљ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више га има у плодовима шипурка, лимуна, зелених паприка и другог воћа и поврћ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8248680" cy="543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3"/>
          <a:stretch/>
        </p:blipFill>
        <p:spPr>
          <a:xfrm>
            <a:off x="684360" y="5589720"/>
            <a:ext cx="8003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539280" y="119700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Ц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аскорбинска кисел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*физиолошке функције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одржава јоне простетичких метала у редукованом обли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важан у виталности десни,зуба и капил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омаже изградњу колагена и везивног тк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олакшава опоравак ткива, зацељење рана и опекот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омаже апсорпцију гвожђ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учествује у синтези хемоглобина и ериторц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одстиче рад штитасте жлез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антиоксидан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ублажава симптоме прехладе и гри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8248680" cy="543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684360" y="5589720"/>
            <a:ext cx="8003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39280" y="119700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Д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калциферо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*опште одлике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комплекс витамина Д1-Д5, биолошки активни Д2 и Д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термостабил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Д2 (ергокалциферол) – настаје деловањем УВ зрака на ергостер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Д3 (холекалциферол) – настаје деловањем УВ зрака на 7 дехидрохолестер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за апсорпцију неопходне жучне с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ревентиво се даје код одојчади током прве године жив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ибље уље (уље бакалара, туне, лососа, харинге, сарделе), јаја, маслац, остриге, млеко и 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8248680" cy="543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3"/>
          <a:stretch/>
        </p:blipFill>
        <p:spPr>
          <a:xfrm>
            <a:off x="684360" y="5589720"/>
            <a:ext cx="79819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24000" y="1197000"/>
            <a:ext cx="85327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Д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калциферо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*физиолошке функције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могућава нормалан развој костију и зуб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гулише процес метаболизма калцијума и фосфо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јачава апсорпцију калцијума и фосфора из танког ц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ећава тубулску ресорпцију фос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спречава развој рахит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недостатак изазива рахитис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кривљење ногу, деформација костију грудног коша – заостатак у расту и разво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8248680" cy="543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3"/>
          <a:stretch/>
        </p:blipFill>
        <p:spPr>
          <a:xfrm>
            <a:off x="684360" y="5589720"/>
            <a:ext cx="79819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539280" y="119700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Е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sr-RS" sz="2400" spc="-1" strike="noStrike">
                <a:solidFill>
                  <a:srgbClr val="000000"/>
                </a:solidFill>
                <a:latin typeface="Arial"/>
              </a:rPr>
              <a:t>-токоферол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Физиолошке функ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кофактор бројних ензимских реак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делује као антикоагулан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антиоксидан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одржава функцију нервног система и крвних суд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важан у функцији репродуктивног система (антистерилни витам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помаже апсорпцију незасићених масних кисе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олакшава еритроцитопое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лице житарица и других биљака, зелено поврће, воћ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дан од најквалитетнијих извора овог витамина је уље кукурузних кл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8248680" cy="543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3"/>
          <a:stretch/>
        </p:blipFill>
        <p:spPr>
          <a:xfrm>
            <a:off x="684360" y="5516640"/>
            <a:ext cx="8029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539280" y="119700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К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нафтохин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*опште одлике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ознат и као антихеморагични витам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ородица неколико витамина (К1 – К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ствара га бактеријска фл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осетљив на киселине и ба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антитромботични лекови му спречавају дело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дневне потребе: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70-140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одрасли, 30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де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анаћ, кељ и купус, затим млеко, џигерица и 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>
            <a:off x="611280" y="479736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"/>
          <p:cNvPicPr/>
          <p:nvPr/>
        </p:nvPicPr>
        <p:blipFill>
          <a:blip r:embed="rId3"/>
          <a:stretch/>
        </p:blipFill>
        <p:spPr>
          <a:xfrm>
            <a:off x="611280" y="5300640"/>
            <a:ext cx="806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ШТЕ КАРАКТЕРИСТИКЕ ВИТ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рганска једињ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мале молекулске ма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различите струк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13 до сада октривених вр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растворљиви у води (вит. Ц и комплекс вит. Б) и мастима (вит. А, Д, Е и 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еопходни за велики број животних функциј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види слајд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Резултат слика за vitamini"/>
          <p:cNvPicPr/>
          <p:nvPr/>
        </p:nvPicPr>
        <p:blipFill>
          <a:blip r:embed="rId2"/>
          <a:stretch/>
        </p:blipFill>
        <p:spPr>
          <a:xfrm>
            <a:off x="2916360" y="4581360"/>
            <a:ext cx="32176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39280" y="119700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К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нафтохин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*физиолошке функције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требан за синтезу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VII, IX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, и вероватно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фактора коагул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спречава хеморагију новорођенч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регулише процес коагулације кр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ојачава 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Дефицит доводи до крвар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611280" y="479736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3"/>
          <a:stretch/>
        </p:blipFill>
        <p:spPr>
          <a:xfrm>
            <a:off x="611280" y="5300640"/>
            <a:ext cx="806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9528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УТРИТИВНЕ КАРАКТЕРИСТИКЕ ВИТ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емају енерегетску вредност за разлику од масти, угљених хидрата и проте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ећину витамина организам не може да синтети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морају се зато унети хра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требни су нам у малим количинам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mg или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тачно дефинисане потр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препоручени дневни унос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DA; recommended daily allow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Резултат слика за vitamini"/>
          <p:cNvPicPr/>
          <p:nvPr/>
        </p:nvPicPr>
        <p:blipFill>
          <a:blip r:embed="rId2"/>
          <a:stretch/>
        </p:blipFill>
        <p:spPr>
          <a:xfrm>
            <a:off x="3132000" y="4581360"/>
            <a:ext cx="2708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ЛОГЕ ВИТА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НЕЗАМЕНЉИВИ БИОЛОШКИ КАТАЛИЗАТОРИ ЋЕЛИЈСКИХ ХЕМИЈСКИХ РЕАКЦИЈА (КОЕНЗИМИ И ПРОСТЕТИЧКЕ ГРУПЕ ЕНЗИМ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ОСИГУРАВАЈУ ПРАВИЛАН РАД МЕТАБОЛИЗМА, РАСТ И РЕПРОДУКЦ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ОТРЕБНИ СУ ЗА СИНТЕЗУ КОЛАГЕНА И КОСТ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ВАЖНИ У ОДВИЈАЊУ ПРОЦЕСА КОАГУЛАЦИЈЕ КР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УЧЕСТВУЈУ У КАТАБОЛИЗМУ ИЛИ АНАБОЛИЗМУ УГЉЕНИХ ХИДРАТА, МАСТИ И ПРОТЕ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НЕОПХОДНИ У ФУНКЦИОНИСАЊУ ВИДА (ФОТОРЕЦЕПТОР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*поремећај уноса витамина води у хипо или хипер-витамино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68360" y="126792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итамини растворљиви у маст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рисутни у намирницима које садрже м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лабо растворљиви у в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носе се у облику ест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Варе се под утицајем холестерол-естар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псорбују се у горњим партијама танког црева (проста дифуз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За апсорпцију неопходне жучне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лазмом се преносе у облику миц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кладиште се у јетри и масном ткиву (вит. А и 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отенцијално токсични, посебно витамин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линички знакови недостатка се развијају после више го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400" spc="-1" strike="noStrike">
                <a:solidFill>
                  <a:srgbClr val="000000"/>
                </a:solidFill>
                <a:latin typeface="Arial"/>
              </a:rPr>
              <a:t>* Апсопрција ових витамина се смањује када се смањи апсорпција масти (недостатак жучних соли и/или холестерол-естараз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68360" y="169992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итамини растворљиви у в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обро растворљиви у води (телесним течности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псорбују се у горњим партијама танког црева (изузев вит. Б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Вит. Б12 се апсорбује у илеуму везивањем са Унутрашњим факт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Већина се апсорбује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R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трансопор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Вит. Б12 и Б9 преко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R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езависних транспор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Вишак се не складишти осим вит. Б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Главна улога – коензими и простетичке групе енз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линички знакови недостатка се развијају после 6-8 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68360" y="134100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изиолошка искористљивост вита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Људски организам не може у потпуности да искористи све витамине присутне у хр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Одређивање количине витамина у намирницама није довољно да се разуме стварна искористљивост витамина из тих намир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актори који одређују витаминску искористљиво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пољни фа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утритивни фа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нутрашњи фа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126792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изиолошка искористљивост вит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пољни фактори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Различити биопотенцијали витамера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нпр. ергокалциферол (Д2) је значајно мање активан од холекалциферола (Д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Губици приликом складиштења, прераде или кувања хранљивих матер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нпр. количина витамина Ц у кромпиру се смањује на 1/3 током складиштења у трајању од 1 мес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*витамери-скуп различитих хемијских супстанци који сви показуј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сличне биолошке активности као неки витам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(нпр. различити облици витамина А, Д ис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6:16:54Z</dcterms:created>
  <dc:creator>Maja Jovanovic</dc:creator>
  <dc:description/>
  <dc:language>en-US</dc:language>
  <cp:lastModifiedBy>ХХХ</cp:lastModifiedBy>
  <dcterms:modified xsi:type="dcterms:W3CDTF">2021-02-17T06:46:28Z</dcterms:modified>
  <cp:revision>102</cp:revision>
  <dc:subject/>
  <dc:title>ИНТЕГРИСАНЕ АКАДЕМСКЕ СТУДИЈЕ ФАРМАЦИЈЕ  Г04 – Медицинска хемија и дизајн лекова 2</dc:title>
</cp:coreProperties>
</file>