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354-AA31-4224-8424-8F89F741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E42-2362-4C22-B96B-A1F07408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19D-95F0-4375-8E7D-630E4EE9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404-EA2F-4056-9CF9-84670C7C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33A-AC14-4EF4-BC53-060F8D6C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41F-D822-4ABC-8701-0EA1F1B4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9E2-0BC9-413C-B5E7-B1464EEC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51E-2A66-4241-8175-95FC45AB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2A3-3F77-4C31-979A-5E230E24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3FB-2576-4720-A2A5-C7F7FE4E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94A-0B12-4A42-AF8C-410A7B85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16F-3C38-41F6-9F76-BBF675B2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6550-24EE-4927-A43D-9E5BFF610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775960" y="162864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УТРИТИВНИ СУПЛЕМ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889800" y="2165400"/>
            <a:ext cx="1540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ЖБА БРОЈ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547560" y="32925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Calibri"/>
              </a:rPr>
              <a:t>Поремећаји метаболизма витами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Calibri"/>
              </a:rPr>
              <a:t>Хипо-и хипервитамин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Узроци настанка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1773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ије је главни узрок настанка овог обољења  био недовољно излагање сунчевим зрацима у загађеним градов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 данашње време, ово обољење много чешће настаје услед недовољног уноса провитамина (који се у кожи трансформише под утицајем сунчевих зрак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Мутације као узрок настанка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во обољење такође може настати као због мутације гена за бубрежну 1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хидроксилазу, или у тешким поремећајима функције бубрега и јетре, при чему нема одговора на примену витамина D, а постоји нормалан одговор на примену 1,25-дихидроксихолекалциферола (витамин D-резистентни рахитис тип 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 ретким случајевима може постојати мутација гена за рецептор за 1,25- дихидроксихолекалциферол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итамин D-резистентни рахитис тип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при чему постоји недовољан одговор на примену витамина Д као и за 1,25-дихидроксихолекалциферо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99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чење се спроводи у зависности од биохемијске основе боле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утинска примена млека обогаћеног витамином D значајно је смањила појаву рахитиса у западним земљама, док је у земљама у развоју ова болест и даље једна од најчешћих у дечијем узрас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шки облици болести понекад се морају хирушки третир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gtbc.fm/wp-content/uploads/2015/09/vitamind.jpg"/>
          <p:cNvPicPr/>
          <p:nvPr/>
        </p:nvPicPr>
        <p:blipFill>
          <a:blip r:embed="rId2"/>
          <a:stretch/>
        </p:blipFill>
        <p:spPr>
          <a:xfrm>
            <a:off x="4643280" y="4508640"/>
            <a:ext cx="42498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1652040" y="2781360"/>
            <a:ext cx="61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достатак витамин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30040" y="155736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ви откри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осолубилни витам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пада породици једињења која се називају ретин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ак витамина А  је значајан здравствени проблем у земљама у разво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 80.000 особа широм света (највећим делом деца у неразвијеним земљама) годишње изгуби вид због тешког недостатка витамина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645360" y="4046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езултат слика за vitamin A"/>
          <p:cNvPicPr/>
          <p:nvPr/>
        </p:nvPicPr>
        <p:blipFill>
          <a:blip r:embed="rId1"/>
          <a:stretch/>
        </p:blipFill>
        <p:spPr>
          <a:xfrm>
            <a:off x="5462640" y="189000"/>
            <a:ext cx="706320" cy="89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upload.wikimedia.org/wikipedia/commons/0/09/Retinol.png"/>
          <p:cNvPicPr/>
          <p:nvPr/>
        </p:nvPicPr>
        <p:blipFill>
          <a:blip r:embed="rId2"/>
          <a:stretch/>
        </p:blipFill>
        <p:spPr>
          <a:xfrm>
            <a:off x="595440" y="4992840"/>
            <a:ext cx="5162400" cy="177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3408480" y="625140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емијска 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645360" y="4046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Резултат слика за vitamin A"/>
          <p:cNvPicPr/>
          <p:nvPr/>
        </p:nvPicPr>
        <p:blipFill>
          <a:blip r:embed="rId1"/>
          <a:stretch/>
        </p:blipFill>
        <p:spPr>
          <a:xfrm>
            <a:off x="5494320" y="189000"/>
            <a:ext cx="706320" cy="89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Резултат слика за vitamin A"/>
          <p:cNvPicPr/>
          <p:nvPr/>
        </p:nvPicPr>
        <p:blipFill>
          <a:blip r:embed="rId2"/>
          <a:stretch/>
        </p:blipFill>
        <p:spPr>
          <a:xfrm>
            <a:off x="2565360" y="4508640"/>
            <a:ext cx="3754440" cy="2033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95280" y="148428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ак витамина А изазива недовољан унос намирница које су богате витамином А (јетра, бубрези, јаја, млеко, павлака и сир),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β-каротен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урсором витамина А (жуто или наранџасто воће и поврћ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дан од најранијих поремећаја који настају услед недостатка витамина А је ноћно слепи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икталоп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430800" y="76500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мин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Резултат слика за vitamin A"/>
          <p:cNvPicPr/>
          <p:nvPr/>
        </p:nvPicPr>
        <p:blipFill>
          <a:blip r:embed="rId1"/>
          <a:stretch/>
        </p:blipFill>
        <p:spPr>
          <a:xfrm>
            <a:off x="5141880" y="509760"/>
            <a:ext cx="706320" cy="898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395280" y="2205000"/>
            <a:ext cx="84978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ак витамина А такође доприноси настајању слепила услед израженог исушивања ока, које оштећује рожњачу (ксерофталмија) и мрежњ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т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стата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а А ремети функцију штапића и чеп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готрајан недостатак витамина А изазива анатомске промене штапића и чепића које су праћене дегенерацијом неуронских слојева мрежњ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3063240" y="692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ТЕРАПИЈСКЕ СМЕР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24000" y="233352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ње витамином А може да поврати функцију мрежњаче уколико рецептори нису оштећ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Унос хране богате витамином А :  јетра, пилетина, говедина, јаја, пуномасно млеко, шаргарепа, спанаћ, кељ и друго зелено повр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Унос витамина В-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Рахитис и остеомал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ахитис и остеомал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148428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витамина D доводи до неправилне калцификације коштаног матрикса, при чему наста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х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деце, или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еомал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одрасли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ако је 1,25- дихидроксихоликалциферол неопходан за правилну минерализацију коштаног матрикса, главни узрок овог обољења је немогућност допремање довољних количина Ca и P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до места минерализа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ахитис и остеомал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699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се стање развије у потпуности, код деце долази до слабости и деформитета дугих костију, оштећења зуба и хипокалцијем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одраслих, ово стање изазива мање уочљиве симпто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Резултат слика за rachitis"/>
          <p:cNvPicPr/>
          <p:nvPr/>
        </p:nvPicPr>
        <p:blipFill>
          <a:blip r:embed="rId1"/>
          <a:stretch/>
        </p:blipFill>
        <p:spPr>
          <a:xfrm>
            <a:off x="2916360" y="386064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Vladimir Zivkovic</cp:lastModifiedBy>
  <dcterms:modified xsi:type="dcterms:W3CDTF">2017-02-09T08:23:13Z</dcterms:modified>
  <cp:revision>228</cp:revision>
  <dc:subject/>
  <dc:title>Slide 1</dc:title>
</cp:coreProperties>
</file>